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B9A4-3AF3-4D7E-A14C-6EE88C766B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41BC-A506-419F-AA3D-3505A9EE66F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D7B-9F12-4C41-A36B-1D22CF9D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7D8-D2B6-4711-A772-EBBED35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D97B3-37F4-41B2-82C0-C7B4EEF5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72929-992C-4187-971F-2F4131C2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8D3EE-8A3F-4239-BFB4-4FA41317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912B-229F-4B34-84CE-1896556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E1B0-2F72-4E5C-99CE-0D26F741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A8BAB-CE7E-4586-9C86-34A82DA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74084-B833-49B7-A65F-1F07906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3046B-E9E0-4557-ACDC-0398A52E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555FF-6A85-49F2-9FAC-9A81A028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C9494-8C07-4895-BC14-F111DDB3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D07-FDB0-434D-8EDE-AC7C113E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C62B8-89FE-444D-8744-2917AA0B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16B70-6BF3-4922-A748-14F212A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B21AE-339D-46BC-BE68-5CFE3577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61206-529F-4942-8225-8FAE0F8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9A831-E4A6-4E87-9B32-759AC8F7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31D2-376A-4DC8-BE5A-D570DF8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DDFD2-AC16-41C4-A859-E2181EBF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3862-FC88-4822-888C-BB77BE9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8D857-5FAF-4C15-8BBA-4BBCA896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7F56-6AF7-45A5-8C4E-FA0ECE69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AA0-3EDF-4293-82C7-46337DF0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9741-4E6C-47BE-9317-924F15C8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19C44-F947-4011-8C24-77976566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B2913-49D0-4C42-979C-A20896B9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FF2CA-7F8D-4043-B065-DEA472E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906F-CFA5-4928-AD1E-6DC69F3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34047-0158-4630-8AE3-AA2782CE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5FDEA-D522-4671-868B-1C566E5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E94D-6394-461D-B3BD-6FB4A5D5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762B8-2A37-414C-9647-730EE8FB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F7C0-D9DE-496B-ADC3-C1A62EC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A40C-E5A5-43C6-ACE0-E1A99BF1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E8F36-993D-4885-89CF-1B9B449D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A8B8C-95CA-429F-BCD9-20B459C4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4F8E4-AD94-4D9C-965E-14E27D18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6B786-3AA4-4AF9-9A5E-DE281B9A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C2EF7-EF9E-4963-A843-55FC562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7EAA9-1526-47F1-9C86-4F8D2EA3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A7C5D-0505-4B05-BAD7-6CC583A2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9B630-CC20-4002-AFA5-7531B45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CDA67-2108-470A-AF95-E6B13441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43FCD-006F-4F46-BEB7-83C7A520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2239-F836-432D-AADF-0B666C24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0F585-5BAF-497A-AE31-024C27E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96118-F0D0-4C90-AB3B-7B8CD025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3EB0C-0CF2-4E4A-A646-15F5DE9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76F0F-5B7D-4945-86B9-9F48A4CF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D80AE-5538-4D86-827B-D88522AB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8A01D0-0247-4A5B-B303-11B28DC7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7C224B-769D-44E2-9EAE-5FE3E83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15768B-B78F-42D1-890B-ED578A9B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35AD06-A25F-48E6-BCA8-A3124A69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6D3498-DC0A-43FE-A2B1-933D460A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5751-482E-4D22-B593-862BF25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E15BA7-B932-4F7C-A15C-2F8986F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D7688D-1B52-4EE9-AE09-28B790A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CFD570-4099-4197-B4F4-C76055A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956E41-60DB-4B78-9C99-8A7DCAA4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E28D23-98F6-494D-8FD3-3C2CDC7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9FF3CD-0C4F-4AD4-B869-D037347B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DF02D5-866F-48C4-A4CE-B3689B7C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8264F2-4F1B-4A58-97A7-C111BFDA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31D522-06DD-4427-9883-F95E0507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8ECB69-D760-49E2-8237-FCB7EC87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D8CE-46C0-4A3C-A7BC-E536172C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A6CAEE-56BD-47FC-B720-2A821BAA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C67F43-9EDA-4BFE-949D-3F48611E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EBEFB0-57F8-4282-B633-1B02FA21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07AEF6-471A-4709-B119-42ADAD1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A785BC-E9F1-4943-A0C4-B45D5C77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F88BCF-6B29-455B-93ED-B5F326F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250064-430A-4CC0-8530-4C8FD73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EF53BC-113B-4948-A034-F08C837C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1B13C0-A152-4ED7-9B04-9262C2A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9F80F-E58D-476C-A8A4-2ED4D71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3CF6-B80E-4DD2-88CA-38B0D6BA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13A02-EB8C-49E2-AA77-0C93891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204BC-7512-4EBB-8CEB-AC635580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60328-03B7-43E3-8E05-A8285BB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B6AF7-FEAC-4C5A-A0AA-E8DFE241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B9C88-DE4E-4265-B6D6-86B02A0D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3DBA27-B602-479E-8C2F-257EFB6E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82750-565B-40E0-8437-B2293A4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F6529-185E-4A52-B7AE-3B0F6DA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F1C0F-ECE3-4E10-ADF3-4434AEA4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EEAAB2-39E2-4E6C-9A7D-A5D6B7C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3EE-A76E-419A-AB09-F129F8F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B12AE-028F-4200-9856-1FF03A49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67B26F-A430-4071-B120-548E5573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6D1366-1B5D-4AB1-83A9-584A8C16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0C4BC9-AA2B-4B3B-B1FC-F9391DA7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E95EC7-1AA3-4179-91BB-47D5E95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253C22-EFA2-45B7-8CE2-BB89138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E59BD0-8DB8-4431-B9D5-880024A2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712FD6-630D-4F41-B694-FB56EDB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4DF5E6-AAB9-4F59-9D35-75EB357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238B40-C84D-4592-94F2-3EA5A1B4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FAEB-07E2-4178-9C52-67C29298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067A29-46F5-401F-A4E1-B64257F0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DE49C6-67A0-418F-A670-128A3D82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43E2B7-7945-4926-B3D5-18435727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D8DDB-003F-4551-AD19-469C1491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3C4B3-A89D-4791-B788-AFDD6C2A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DA486-1AF9-4E48-B9AB-53755A82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CDCFC-3E0C-45D1-BBAA-5ADAC6C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858FA-6DBE-42D8-ABE7-9399C20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178BE-CAF3-412C-B711-F9A1F79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9E09E-53E8-49C8-AE1A-3C1A1A5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890-30D8-4793-9762-895741C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A12B-4A72-4232-AC26-DB256D4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1ED98-5F13-41A1-BC12-DF506F3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D6F56-2B42-4694-A973-F075F1D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51FFA-493D-4F5A-84E0-F9046D30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DDD37-BB7F-4F5D-870D-25716C4A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FA360-52F8-4EC1-867E-326D6C79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C3AD86-2A7F-4B15-931D-9E7825AF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DFC24-D6B8-43B6-A094-3FA2B9EC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76A7B-A3A5-4C3D-B149-5E2866E3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6A89C-AC4F-4B79-B6A3-6B199F7A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B84F90-0E42-45E0-9F0B-B04B0AB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2722-B874-4554-B34E-38ACA21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2FE6C1-F9DA-4867-9999-52555B5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0D5C9-57ED-4C70-B322-4A10258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8CC61-37F5-42BF-BEEF-EBE55752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2B737-86BB-47F4-959A-4F87453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888C0-12D8-449E-A3BB-CD7868B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1074B-0F18-481E-9F7D-423D2314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0450D-9F02-47F2-8993-91C95609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EC1B2-3D9F-4FBC-8B7F-CDC27B4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A1FE97-BA02-4040-842A-F081A30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75C55-5298-48CA-A373-2B8886F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6DA-C8C4-403A-9A1A-825BAD8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C91B1D-ECFF-45A5-8507-A1DC2B8B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FC4C9-1F5B-4D1E-B1A1-39F3486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C62F8-DC64-4F2E-B43D-6F5C844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6D419E-6D8D-4155-92D5-420F175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ED1AF-898D-4C23-8E90-5BE69558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AFFB1B-C967-4E9F-B0B9-9E13817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FFBEA-57FA-48E3-8B67-8A3CFD0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DF743E-9F31-49FB-AB5D-80B3DB19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00A516-F35E-45F8-A11E-6B894243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C4CBB3-92EF-4A13-9EF8-BC91227E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9292-9DF3-4DAA-8F5D-03FA56C5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9C21F-08D8-41C2-ABB5-9641877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3944C-63C0-4400-B65C-6AAAEB0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AA85D-DA82-4A37-A741-1C93ABC7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E1945-D6AD-4A7C-A0A6-2F131D14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78210-95ED-4DA3-81A9-346F6FAD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A67D2-4435-4EE1-A607-C96D767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27425-A451-4B37-B37B-383E55A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F994F-357D-4C9B-A208-9425E2C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752C5-AFB7-4830-87CD-A8CF855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6F6C9-5C62-4BBD-8451-4C09ECDE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F2FA-1647-48C2-A99E-98BD2C07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AE78A-0798-4F29-9CE0-F41AAE90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FA200-2FA8-4583-8D32-AD353AE3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E7845-5DD6-4D1E-BEDB-E682B84E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6BF69-84DF-48BE-A096-0CAFA9A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72EC3D-E406-4330-B079-4EB2ABB0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8A5C48-B71E-4C64-9A92-8DF1EA88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49F4B-64B6-49FC-9F1E-EE094502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2CFBF-DF02-496B-B3E6-606D827A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BA05E-F338-4D01-A3DB-1F717A9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CE3C7-AEC7-4768-BD8A-9F4BFF3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66948-4E86-4FDA-800A-9697CDEF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726BB-AD53-4DA4-AFE7-149E908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2848B-5DD3-4672-99B2-CF909E87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FD120-4C09-41A7-AFB4-1A363CA2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3E6328-7CE6-4EF3-B2A5-9223AC56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D3884-6B36-4180-9D44-61FD46E5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D8EA62-C105-4505-85B8-C25970A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C1392A-CABC-471C-BF2E-71BA643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3EEF49-65AD-4BB8-9C79-6FA43DE1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C12192-BD55-4515-A1D7-ED2222CC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B5135-00DA-48C4-90CB-17BD1CAD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C73E-1706-405D-BDB5-48478BD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E09FF-4664-4718-AB41-F06DC001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EB4C42-314D-4618-BBD3-9217383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B7834-FDEE-4E01-8ADD-17CC79E6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0D57C-79E1-4689-8567-E6AB9C01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37200E-729C-44F5-95C1-FC443965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75EF46-74DA-4DB4-9890-F384600F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CCC446-6F12-4ED8-96D9-4566BE9D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BF29E-0C8F-44F9-A6DB-B3B8396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4A5DD-0812-426E-8DAC-6C116622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EB0C76-B59B-4A5E-9380-4E108C5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7A03-4140-4865-9CC9-DEA309A2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45DFA0-2EF6-4D62-B083-F0C3D149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19804E-C4BE-41E1-9F38-DE9ACB5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36444-88E6-4582-802E-0E9D59B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59A47-0E49-4BF2-9ECC-A07199B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42524-A143-40FB-9AF9-3676C056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4CEF2-1FD5-447E-B90B-4DE767E4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32FC5-1A56-4C38-950F-2C70ACDE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0A8615-97FC-4939-9C05-CC545492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190F9-6E83-4B91-B5D5-49DA4A6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99BB4B-66A2-481D-B49B-381D7A2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5A5A-8B87-4076-9A81-DB639E7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A04E90-76EE-4839-A0E3-42B06E1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011EDA-718C-46B8-A2C5-CF1EDE6B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F225AC-2BCE-4AA9-8A52-2D22CDC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EFCF15-F377-412D-8390-CA9C51DD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79D8B6-428D-4618-A339-29F23F7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561DDA-B34D-4454-994C-79ED236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FDE659-42FA-48DE-8FE9-3A46428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A496CF-1C5F-43BB-8348-B2C6262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C0604-F84A-4015-BABD-DE9394FA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DFE09B-980C-4786-9573-950B3889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AE87-0F1A-4975-8A02-43875956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72EA08-D601-47F6-935D-3613F60F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C093D-69C2-470E-BA69-71986B8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40F8A-47C7-436A-B78C-8CA36EB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C919DD-3F9D-4858-934D-31CD3F2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5732C9-B276-4AF7-B133-E28EFB1F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B60381-1DF8-4E38-B658-3F84D06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8A579A-1D58-4B8A-AA66-E9DD17D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08563-1489-4DAC-9682-73B0977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0B8ACF-F84F-48EA-931E-02A7603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3BBC40-B857-4916-971C-4041B21B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47E-2806-454A-9697-9C5A4074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52B4-D4BB-42F5-ABB3-72A95218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3AC21-6D4E-4376-B769-722FAC47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8E53F1-6E27-4BDE-A5D6-9624F0B6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53E303-3AA4-4CE5-A126-FC575A95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59380-75EC-47EA-AE66-C7F39E8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8B11BE-F050-4F5A-9334-82C63A5D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532326-C3D5-4436-B234-1719722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D8D00D-2BB7-4654-AB25-089A8A7E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B50F8F-662B-4800-9664-52B8648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E900A-0C3A-4722-B07D-D97062A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66B47B-683F-4BDC-8FF9-C3C5DC9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79EF-16D5-460B-98D3-EBDA03F2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FC4D38-123C-4F5D-8FD3-317D51F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7671CE-D1D4-4AA2-9448-B6D08E50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B57828-9594-4171-9C83-02C9D395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372486-6345-4CEB-B856-D0542EF2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B7A5A1-07AD-4283-B562-BDAEDBEF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946FCD-1ED3-4AA5-936E-54DC57D5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18C9A6-D9F6-4664-9431-6D106D67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4A66D8-BA62-4234-B019-F209B23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861524-062E-4944-8B3A-5F232DC2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C6B28A-8607-4101-A0A1-B37A65B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C1B4-8365-4A50-B7D3-271B462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7BB79D-D7CB-42A4-94A0-07457BC4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A4C5BF-69A3-4610-BA38-F83CDF6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FE8B56-5C2E-4AC9-B4C9-1E4BD4F9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B7EBB1-1EBB-4D6E-9011-4AF65909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6F248-7678-477A-9F9E-93CCDBF3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EE17-1E17-404C-9378-5AC6D05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08DC6-F8BA-49C9-A90E-52EF268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BB60-D05A-4131-9DE9-780A6007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82FC-2F58-4FA7-8679-78EDF2FB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C5EBE-D0E6-41D1-85BE-670D5B15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E2F1E-78EB-4B85-82B8-29DB4628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0AF7-722B-40DC-ABC8-D3E5444C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AA1-9B3F-44C2-9A14-3FE419DC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4719-957F-4BFD-AC74-A9838E4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5AB4-A86E-490E-BFB9-8F8CEC7C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3764-74DB-4408-91B2-A82565B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6D3B-A240-4CB6-863A-7C1A532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F8685-5D34-485C-8885-0ABB519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6441E-5AD8-473E-A37A-9E1030D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6B00-8623-468E-9C81-A75E9A9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324F-4A15-435B-8DB9-8599FB03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16CF-662C-447A-918F-B4072F12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CBB5-0EB1-49C7-9C99-8BFD16F3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125-479A-4495-8131-FC5365D3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AD196-A8CE-4DC3-8054-ACA7D26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DD91C-DF56-4B9F-AF6B-7FCD8641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9CE13-13E3-4350-9238-C1A501E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2AAA-2401-46DC-BE8E-0819ED8A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7A5E-1484-4B9F-A00C-8D8A5D8B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99995-9BE1-4A79-AD92-D84D50A2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BF238-AF27-4668-B068-1B6A35B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5139C-44D5-418E-997A-8AD5DDC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70B4D-9FE6-4A4A-A298-B4453F7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E046-66C4-473A-A25B-5E005382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9BD-A5A8-44CD-95A0-6EBC901C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A59F-CD0A-4FA5-964B-ACD73E34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E3B8-B27B-481D-A942-BD43416A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E544-A99E-4A4D-97BF-C1E61CF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FB8DA-56AA-4E8E-8BF3-5C9CF405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4CE54-ACDC-41BA-96E7-2ECE1A9B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7F59-798F-4F89-952B-70B82E87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3CAE-D6E3-41DE-BC08-CB09F4A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C2E6-11A2-4A16-BFC4-D037B9CA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4CAC9-FE57-4530-A1E8-03ADC97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F1D4-20BD-48DC-977D-C43CE145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A8A-576D-44E6-A969-501A8C2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D36B5-4A8A-4841-B63E-88AAC958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4C86-0219-4FD4-9CEE-62D8EDE2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372F3-0AC0-473E-8140-F1185A70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6D16-7357-4597-B9F8-0E417AB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C116B-687E-4A6A-AA14-A664C3C3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A024F-22A4-4555-82B6-55DA8777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0CAC3-4532-4390-B36F-72928B47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1DDC9-D856-46B5-A8DB-401D3EE4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E06F-5402-464C-9241-59349686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0D9CD-998F-403F-9D05-74370F9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DCD-4D74-4FF3-B4BA-2A03BA56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F70BD-BBDB-4D17-9C87-10D48A61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924E-ECD8-4FAD-A802-3FA2DA9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A5B9E-4404-4153-AC3A-7C76E86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8898-283E-44F0-958B-60F3B441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9371-F3C3-4D31-BEE0-14D56600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C758B-119C-475C-84FE-D6E58FC6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57203-176A-4AAF-8C98-14B4AE52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9D08-9166-4A28-AB8B-8F2D531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99C42-2AC6-4F1D-830E-4DC18E59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0BBD-BFEF-48E6-BBF6-C881704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EB0-4B92-4CF5-8BED-DF8C3C5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D3CD6-6E46-4D11-B181-024955C5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BFCBF-68C1-4244-BA09-FB5940F1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63C45-F9EF-4132-9B7F-886989D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58E5B-4E93-4115-B53C-3A8B1FA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F1C60-FD15-43D5-BF82-94F9367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FEF3-E644-4B09-B68E-B86A3F80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0C54E-4012-4E9C-BE4E-9387F30D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772EB-BE50-4223-A609-4DAAB13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E2B18-F1FA-48E8-BEB5-A741C727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75DAF-DB96-49C9-BF6D-54C85E5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AFE1-477C-47C7-A083-C70A8C307F2C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2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3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5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7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8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40EF-AE6B-4FE3-A403-E5351437407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B1A5-58E5-4219-8110-149B51C7CE19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1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3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5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C8BC-A8A9-4F72-AD09-B2B04C91E3B7}" type="slidenum">
              <a:rPr b="0" lang="en-A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8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9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0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1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2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3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4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5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6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50A-FE58-47C0-9A58-3AB7A27CFB1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2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4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5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6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7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8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1B5-2458-4CA3-BF20-395821F4DD31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dt" idx="4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75C-A8DF-4AEF-9221-71D37496BAD5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2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3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7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8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9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4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A606-260C-4910-95D7-FCFE1D1A87D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4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4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2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F5D6-8FBB-41CC-A12A-0F4884D1F4CF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BCCA-8493-453D-9243-0DE7A9B23940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B262-674A-4BE5-8853-A2F6096B596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BFB3-7DFB-47F0-8A91-F778E15F519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9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0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D84E-721D-4A2E-A79A-C8F558B38E50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B2EE-E6B6-45F7-9EEE-BEEB24F0DF7B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9D7-E0F3-43A2-8B94-B3F5B7CCFB6B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1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2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3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4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5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6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7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8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9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0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1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2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3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4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5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B523-E2E3-4569-A78F-B1C7F9AC4722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02B-365D-40C4-B7C5-438F96EB3EE9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60A0-A7C7-4876-9C1A-6B0E37ED819D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7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7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7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B61-DF6F-4540-BBE3-9CDA9BD3E07F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257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1258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59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0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261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1262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3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4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grpSp>
        <p:nvGrpSpPr>
          <p:cNvPr id="1265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1266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7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268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7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8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8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CCF-C477-43BE-B4BF-AC13B1BAFB7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05A5-B42D-41E3-95D7-A3A6018DD578}" type="slidenum">
              <a:rPr b="0" lang="en-A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99E3-FFE2-410C-8C27-9A5EA43A01FE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C827-9322-4456-B861-D398E6041BE0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2338-E598-419C-BA5E-C6B58B59C744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2FD-7047-44E6-9190-8E6A1BB67D0B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0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3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5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24DE-20B4-428A-AC90-7E4BB172AC57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FF4-7FB1-481F-95AB-06072366109A}" type="slidenum">
              <a:rPr b="0" lang="en-A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7" name="Title 1" descr=""/>
          <p:cNvPicPr/>
          <p:nvPr/>
        </p:nvPicPr>
        <p:blipFill>
          <a:blip r:embed="rId1"/>
          <a:stretch/>
        </p:blipFill>
        <p:spPr>
          <a:xfrm>
            <a:off x="212760" y="1365120"/>
            <a:ext cx="8980560" cy="2036880"/>
          </a:xfrm>
          <a:prstGeom prst="rect">
            <a:avLst/>
          </a:prstGeom>
          <a:ln w="0">
            <a:noFill/>
          </a:ln>
        </p:spPr>
      </p:pic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anges of Reproductive Strateg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7b9899"/>
                </a:solidFill>
                <a:latin typeface="Georgia"/>
              </a:rPr>
              <a:t>A Range of reproductiv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Georgia"/>
              </a:rPr>
              <a:t>In the animal kingdom, reproductive strategies can differ markedly in terms of several major features including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Content Placeholder 2"/>
          <p:cNvSpPr/>
          <p:nvPr/>
        </p:nvSpPr>
        <p:spPr>
          <a:xfrm>
            <a:off x="4529160" y="285840"/>
            <a:ext cx="46148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Arial"/>
              </a:rPr>
              <a:t>Type of reprodu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exu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xua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2" name="Content Placeholder 2"/>
          <p:cNvSpPr/>
          <p:nvPr/>
        </p:nvSpPr>
        <p:spPr>
          <a:xfrm>
            <a:off x="571680" y="214308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00"/>
                </a:solidFill>
                <a:latin typeface="Arial"/>
              </a:rPr>
              <a:t>Gender system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Sexes exist as separate male and femal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3" name="Content Placeholder 2"/>
          <p:cNvSpPr/>
          <p:nvPr/>
        </p:nvSpPr>
        <p:spPr>
          <a:xfrm>
            <a:off x="4529160" y="414324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b0f0"/>
                </a:solidFill>
                <a:latin typeface="Arial"/>
              </a:rPr>
              <a:t>Mode of fertilis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a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Content Placeholder 2"/>
          <p:cNvSpPr/>
          <p:nvPr/>
        </p:nvSpPr>
        <p:spPr>
          <a:xfrm>
            <a:off x="285840" y="35712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ff00"/>
                </a:solidFill>
                <a:latin typeface="Corbel"/>
              </a:rPr>
              <a:t>Mating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Single pair matings: monogam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Multiple matings of individuals (polygamy)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ffff"/>
                </a:solidFill>
                <a:latin typeface="Corbel"/>
              </a:rPr>
              <a:t>promiscuity</a:t>
            </a: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357440" y="1356840"/>
            <a:ext cx="461484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eb80a"/>
                </a:solidFill>
                <a:latin typeface="Corbel"/>
              </a:rPr>
              <a:t>Numbers of offsp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r- sel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K-sel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6" name="Content Placeholder 2"/>
          <p:cNvSpPr/>
          <p:nvPr/>
        </p:nvSpPr>
        <p:spPr>
          <a:xfrm>
            <a:off x="4286160" y="4286160"/>
            <a:ext cx="461484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7" name="Content Placeholder 2"/>
          <p:cNvSpPr/>
          <p:nvPr/>
        </p:nvSpPr>
        <p:spPr>
          <a:xfrm>
            <a:off x="4529160" y="4643280"/>
            <a:ext cx="46148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157a"/>
                </a:solidFill>
                <a:latin typeface="Corbel"/>
              </a:rPr>
              <a:t>Place of development and source of nutrition for the embry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Oviparity – egg layin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Viviparity – giving birth to live young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8" name="Content Placeholder 2"/>
          <p:cNvSpPr/>
          <p:nvPr/>
        </p:nvSpPr>
        <p:spPr>
          <a:xfrm>
            <a:off x="0" y="2928960"/>
            <a:ext cx="46148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fe8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fe8d6"/>
                </a:solidFill>
                <a:latin typeface="Corbel"/>
              </a:rPr>
              <a:t>Investment of parental care into offspring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Nil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Care by one or both paren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ffffff"/>
                </a:solidFill>
                <a:latin typeface="Corbel"/>
              </a:rPr>
              <a:t>Care by extended family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8:32:27Z</dcterms:created>
  <dc:creator>Lyn Clarkson</dc:creator>
  <dc:description/>
  <dc:language>en-US</dc:language>
  <cp:lastModifiedBy>Lyn Clarkson</cp:lastModifiedBy>
  <dcterms:modified xsi:type="dcterms:W3CDTF">2007-09-12T00:00:41Z</dcterms:modified>
  <cp:revision>3</cp:revision>
  <dc:subject/>
  <dc:title>REPRODUCTIVE STRATEGIES FOR SURVIVAL</dc:title>
</cp:coreProperties>
</file>